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B689E-1C63-4726-A952-D49D614F3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02B9D-9D7E-49BA-B4B9-7931C0BB9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0E009-B0C3-4DD1-B2EF-76F14C00E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B1465-CEE5-44AF-B073-D64E350AF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D1E58-3A68-47E3-98B4-00BB0830D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01326-30AA-4828-A5D0-F879EE9FD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47C7D-2704-43D7-BA6F-831989B2C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E5154-FFAE-4E81-B039-DA1DB784F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B1947-5648-475C-928C-9FE262571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CCF0F-B86A-4A4E-A20D-5C7BB9F36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FBC81-B84E-4992-BCAE-89083FF98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70811-20CF-47C3-9D20-58C40B384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4563FE1-3DB0-4487-ABC0-AF88EA532F2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CA6210-A90A-442E-8F85-55667D5E20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286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ystematic Phonics Instruction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s.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le Language Classrooms: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nstructional approach has the best results on emergent readers’ succes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919680"/>
            <a:ext cx="6400800" cy="213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898989"/>
                </a:solidFill>
                <a:latin typeface="Calibri"/>
              </a:rPr>
              <a:t>Andrea Krasn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898989"/>
                </a:solidFill>
                <a:latin typeface="Calibri"/>
              </a:rPr>
              <a:t>Crystal Gomez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898989"/>
                </a:solidFill>
                <a:latin typeface="Calibri"/>
              </a:rPr>
              <a:t>EDU 7201T – Applied Theory and Research 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898989"/>
                </a:solidFill>
                <a:latin typeface="Calibri"/>
              </a:rPr>
              <a:t>Dr. O’Connor-Petrus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898989"/>
                </a:solidFill>
                <a:latin typeface="Calibri"/>
              </a:rPr>
              <a:t>Fall 201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en-US" sz="1500" spc="-1" strike="noStrike">
                <a:solidFill>
                  <a:srgbClr val="898989"/>
                </a:solidFill>
                <a:latin typeface="Calibri"/>
              </a:rPr>
              <a:t>Presentation 10/19/2010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lanced Literacy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ro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o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earch Hypothe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osing Comments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Questions??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able of Cont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blem Presen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iterature Review: Phonic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honic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ro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o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Literature Review: Whole Language Classro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ole Language Classroom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ro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o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Literature Review: Balanced Literac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3T00:18:21Z</dcterms:created>
  <dc:creator>Andrea Krasne</dc:creator>
  <dc:description/>
  <dc:language>en-US</dc:language>
  <cp:lastModifiedBy>Student</cp:lastModifiedBy>
  <dcterms:modified xsi:type="dcterms:W3CDTF">2010-10-13T21:53:31Z</dcterms:modified>
  <cp:revision>10</cp:revision>
  <dc:subject/>
  <dc:title>Systematic Phonics Instruction  vs.  Whole Language Classrooms</dc:title>
</cp:coreProperties>
</file>